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0348-1DAC-4052-92FE-05115EDD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9C25-69A2-439C-B8FD-F2C61AB6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3A2-B25A-4AE3-A119-6173C1A7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94A7-D412-4E0F-873A-36FDE851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F8F3-5329-4DA8-BA8E-1FB3E2B7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B9C4-3745-44A3-901C-0B5A3447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E116-30C5-4BBD-A9A4-09259A8C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0E93-A617-40C6-B1E8-A2B9300A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5241-5714-4073-BB15-382D6846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113C-DFC2-4661-B8E9-A10B5F05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5092-A0FD-4D34-9563-6A53A407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4124-38AE-4F89-8CFA-3BF09848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E541-5C1E-4489-A228-382451BA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1288-B9A1-4EE8-81EC-59BA400D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0DD8-E9AE-4EEA-A84C-972F1BC0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D827-EC2B-458A-882C-D922ED47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BCF3-248F-4320-A42E-CC0B134C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7FB-77CE-4689-9618-B06BB229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8D99-4DA1-433A-9128-396DC723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7416-C9BC-4A5E-84DD-5763037B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8D8B-74BE-4A34-89E2-0B2B20C8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2F63-7E50-4A02-BE6E-8E0CF2FD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7610-BF29-4259-9633-AFD6BF5C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E55-448E-48E1-BC49-798DB374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0836-D6EE-4DF3-8290-D781D2F37B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CB89-A233-43AD-8492-11B1697D59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ife.uiuc.edu/bio100/lessons/cells_and_organelles.html" TargetMode="External"/><Relationship Id="rId2" Type="http://schemas.openxmlformats.org/officeDocument/2006/relationships/hyperlink" Target="http://kauai.cudenver.edu:3010/0/nutrition.dir/organelle.html" TargetMode="External"/><Relationship Id="rId3" Type="http://schemas.openxmlformats.org/officeDocument/2006/relationships/hyperlink" Target="http://esg-www.mit.edu:8001/esgbio/cb/organelles.html" TargetMode="External"/><Relationship Id="rId4" Type="http://schemas.openxmlformats.org/officeDocument/2006/relationships/hyperlink" Target="http://iip.ucsd.edu/Step/projects95/cellular.Organelles/WHY.HTM" TargetMode="External"/><Relationship Id="rId5" Type="http://schemas.openxmlformats.org/officeDocument/2006/relationships/hyperlink" Target="http://iip.ucsd.edu/Step/projects95/cellular.Organelles/CELLS.HTM" TargetMode="External"/><Relationship Id="rId6" Type="http://schemas.openxmlformats.org/officeDocument/2006/relationships/hyperlink" Target="http://www-class.unl.edu/bios201/group6/cytoskel.html" TargetMode="External"/><Relationship Id="rId7" Type="http://schemas.openxmlformats.org/officeDocument/2006/relationships/hyperlink" Target="http://www.bio.mtu.edu/campbell/eukaryot.htm" TargetMode="External"/><Relationship Id="rId8" Type="http://schemas.openxmlformats.org/officeDocument/2006/relationships/hyperlink" Target="http://www-class.unl.edu/bios201/group6/nucleus.html" TargetMode="External"/><Relationship Id="rId9" Type="http://schemas.openxmlformats.org/officeDocument/2006/relationships/hyperlink" Target="http://www-class.unl.edu/bios201/group6/lyso.html" TargetMode="External"/><Relationship Id="rId10" Type="http://schemas.openxmlformats.org/officeDocument/2006/relationships/hyperlink" Target="http://www-class.unl.edu/bios201/group6/er.html" TargetMode="External"/><Relationship Id="rId11" Type="http://schemas.openxmlformats.org/officeDocument/2006/relationships/hyperlink" Target="http://lenti.med.umn.edu/%7Emwd/back/cell_www/chapter2/ER.html" TargetMode="External"/><Relationship Id="rId12" Type="http://schemas.openxmlformats.org/officeDocument/2006/relationships/hyperlink" Target="http://www-class.unl.edu/bios201/group6/golgi.html" TargetMode="External"/><Relationship Id="rId13" Type="http://schemas.openxmlformats.org/officeDocument/2006/relationships/hyperlink" Target="http://www-class.unl.edu/bios201/group6/centrio.html" TargetMode="External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Comic Sans MS"/>
              </a:rPr>
              <a:t>The World of Cell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3047760"/>
            <a:ext cx="63896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coln Robi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Sample - EDU 22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. The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27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Blood Ce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od ce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rythrocyte (red blood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ukocyte (white blood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rombocyte (platelet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igin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blood cells are created in bone m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em cells divide in the m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5867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ite Blood Ce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Leucocyt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utrophils 40 - 7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ymphocytes 20 - 50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osinophils 5 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nocytes 1 - 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sophils 0.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3581280" cy="2587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410080" y="4572000"/>
            <a:ext cx="26672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Lymphocy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Make up a large part of the immune defense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Act in response to antigenic stimul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Are found in the bloodstream, lymphatic tissues and organs of the lymphatic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Consist of B and T cells, NK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cells initiate Humoral i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nthesize and secrete antibo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ill off Bac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 cells initiate Cell-mediated i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crete cytok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ytolytic T cells automatically kill infected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llsalive.com/antibody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Lymphocytes cont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9880" y="3429000"/>
            <a:ext cx="4616640" cy="2678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7200" y="17524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tural Killer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ck antigen rece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gulate the production of blood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B Lymphocy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All B cell lymphocytes have a specific receptor for specific antigen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BCR is the unique protein that helps activate B cells, creates the specific binding sites, and allows B cells to recognize other lymphocyt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Helps neutralize the microb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Activates phagocyt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Macrophages are antigen presenting ce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resent antigens to B and T ce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Two main types of B ce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Memory ce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ormed from activated B cel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onger life, ready to respond to repeated exposure to a particular antige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lasma cell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arger B cells that secrete large amounts of antibod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ntibodies bind to microbes making them easier for phagocytes to attac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B Lymphocytes cont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B cells can encounter the antigen when it is soluble (lymph or blood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Naive B cells are throughout the body at all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Secreting low levels of anti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Activated by 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Many antigens are T-depend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Require the combination of B and T cells for “co-stimul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Activation of the highest level of antibody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9200" y="563868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ellsalive.com/antibod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dical game-plan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sults from initially testing shows three large tumors pres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Each tumor is located within the lymphatic system, specifically on the lymph nod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sults from the blood work showed a decrease in the level of white blood cells, which is usual. The tests showed that the patients platelet level is way dow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I recommend an immediate platelet transfusion, and to keep a close watch on the status of white blood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These initial results are leading me to believe you will require stem cell transplant from a matching donor after you undergo radiation and chemotherapy to control the growth of present tum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I am going to create an official report and have all this report reviewed by our medical staff for second opinions. I will also make sure all Doctor’s have received a copy of  the results from your blood work and CAT sc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Referenc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cker, Kleinsmith, Harden. (2000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 world of the cel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New York: Addison Wesley Longman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od: The river of life. 2001 July. Retrieved April 30, 2007 from the world wide web: http://library.thinkquest.org/C0115080/?c=w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cellsalive.com/cells/3dcel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cellsalive.com/cell_cycl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Cell Theory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"/>
              </a:rPr>
              <a:t>In 1824, Rene Dutrochet discovered that "the cell is the fundamental element in the structure of living bodies, forming both animals and plants through juxtaposition.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. all known living things are made up of cell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. the cell is structural &amp; functional unit of all living things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. all cells come from pre-existing cells by division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 (Spontaneous Generation does not occur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. cells contains hereditary information which is passed fro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   cell to cell during cell division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. All cells are basically the same in chemical composition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. all energy flow (metabolism &amp; biochemistry) of life occur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   within cell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CELL IS THE BASIC UNIT OF LIFE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llsalive.com/cell_cycl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Prokaryotes vs. Eukaryo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1911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karyo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nuclear membrane (genetic material dispersed throughout cytoplas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membrane-bound orga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mple internal stru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st primitive type of cell (appeared about four billion years ag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7960" y="1719360"/>
            <a:ext cx="4267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ukaryo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membrane surrounding genetic mater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merous membrane-bound orga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lex internal stru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eared approximately one billion years 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248520" y="4952880"/>
            <a:ext cx="2011320" cy="1676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90920" y="4994280"/>
            <a:ext cx="17524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Intracellular Organell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48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cleu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membra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urrounds nucleu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two lay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Numerous openings for nuclear traff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ol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Spherical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Visible when cell is not divi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RNA for protein manufacture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romos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Usually in the form of chromat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genetic inform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DN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Thicken for cellular divis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et number per spec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.e. 23 pairs for human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400800" y="15238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1276560" cy="1276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162920" y="5105520"/>
            <a:ext cx="12762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791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ytoplas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ysoso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Digestive 'plant' for proteins, lipids, and carbohyd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Transports undigested material to cell membrane for remo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Vary in shape depending on process being carried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ell breaks down if lysosome explodes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loroplast (plant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 plastid usually found in plant cel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 green chlorophyll where photosynthesis takes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acuo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embrane-bound sacs for storage, digestion, and waste remo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water solu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actile vacuoles for water removal (in unicellular organis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248520" y="17524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620120" y="3200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477120" y="48769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ytoplas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mooth and Rough Endoplasmic Reticulu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Tubular network fused to nuclear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Goes through cytoplasm onto cell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tores, separates, and serves as cell's transport syste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mooth type: lacks ribos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Rough type (pictured): ribosomes embedded in 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ibos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ach cell contains thousan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iniature 'protein factories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s 25% of cell's ma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tationary type: embedded in rough endoplasmic reticulu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obile type: injects proteins directly into cytoplasm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ytoskelet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microtubu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upports cell and provides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Aids movement of materials in and out of cel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19920" y="16956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267600" y="51246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467480" y="3200400"/>
            <a:ext cx="12765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05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ytoplas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tochondri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Second largest organelle with unique genetic structu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Double-layered outer membrane with inner folds called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rista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nergy-producing chemical reactions take place on crista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ols level of water and other materials in cel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Recycles and decomposes proteins, fats, and carbohydrates, and forms u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ntrioles (animal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ired cylindrical organelles near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nine tubes, each with three tub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Involved in cellular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Lie at right angles to each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477120" y="434340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9436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 Surf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 Wall (plant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ost commonly found in plant cel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ols turg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xtracellular structure surrounding plasma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Primary cell wall: extremely elast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econdary cell wall: forms around primary cell wall after growth is comple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 Membra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Outer membrane of cell that controls cellular traff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proteins (left, gray) that span through the membrane and allow passage of materia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Proteins are surrounded by a phospholipid bi-lay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cellsalive.com/cells/3dcell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7220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324480" y="434340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omic Sans MS"/>
              </a:rPr>
              <a:t>Intracellular Organelle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s to other resour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s and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life.uiuc.edu/bio100/lessons/cells_and_organelle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Insides of Cell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kauai.cudenver.edu:3010/0/nutrition.dir/organelle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ctures and Function of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esg-www.mit.edu:8001/esgbio/cb/organelle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 Are There Organelles?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http://iip.ucsd.edu/Step/projects95/cellular.Organelles/WHY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ular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http://iip.ucsd.edu/Step/projects95/cellular.Organelles/CELLS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crofilaments and Microtubules--The Cytoskeleton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http://www-class.unl.edu/bios201/group6/cytoskel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karyotic Cell Membrane or Plasma Membrane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http://www.bio.mtu.edu/campbell/eukaryot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ucleus, Nucleolus, Nuclear Envelope, and everything you ever wanted to know about DNA (but were afraid to ask)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http://www-class.unl.edu/bios201/group6/nucleu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ysosom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http://www-class.unl.edu/bios201/group6/lyso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ough and Smooth Endoplasmic Reticulum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http://www-class.unl.edu/bios201/group6/er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Endoplasmic Reticulum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1"/>
              </a:rPr>
              <a:t>http://lenti.med.umn.edu/~mwd/back/cell_www/chapter2/ER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olgi Bodi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2"/>
              </a:rPr>
              <a:t>http://www-class.unl.edu/bios201/group6/golgi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rio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3"/>
              </a:rPr>
              <a:t>http://www-class.unl.edu/bios201/group6/centrio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-class.unl.edu/bios201/group6/mitochon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2:28:08Z</dcterms:created>
  <dc:creator>Lincoln</dc:creator>
  <dc:description/>
  <dc:language>en-US</dc:language>
  <cp:lastModifiedBy>Lincoln</cp:lastModifiedBy>
  <dcterms:modified xsi:type="dcterms:W3CDTF">2008-03-31T16:28:15Z</dcterms:modified>
  <cp:revision>57</cp:revision>
  <dc:subject/>
  <dc:title>The World of Cells</dc:title>
</cp:coreProperties>
</file>